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0107-2330-494C-B584-F46FEB93C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7014-B6A1-4DC5-8279-5BCB48C89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921E-5909-49B3-9FDF-C564AA4C6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CC23-30DE-4F61-B0CC-E911A83E87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D452-9EB2-4DAF-825C-F7542CE018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FA4C-B0D3-43C3-8EC2-4DED141B5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6392-38F3-473E-94C8-EB90FB54B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1122-1B27-471E-BB76-7B04E2175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36B1-BBCE-40CD-9834-01E4A35A2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E377-D092-4030-B8CF-93B2971AB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A15F-87DD-4EB3-87F6-345093275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495D-7FCD-4BB8-9EDD-6E30A5E92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5680-DEF4-4918-9375-9C9DBFA998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42F3-0CCB-44C4-BEA4-CFC0005235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b42478"/>
                </a:solidFill>
                <a:latin typeface="Arial"/>
              </a:rPr>
              <a:t>Balancing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cchaput\Local Settings\Temporary Internet Files\Content.IE5\7XQV01E3\MC900441717[1].png"/>
          <p:cNvPicPr/>
          <p:nvPr/>
        </p:nvPicPr>
        <p:blipFill>
          <a:blip r:embed="rId3"/>
          <a:stretch/>
        </p:blipFill>
        <p:spPr>
          <a:xfrm>
            <a:off x="0" y="2286000"/>
            <a:ext cx="2133720" cy="2743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3886200" y="45720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96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-4 Breakout 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e Fruity Set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groups of 4 (mixed grade), work together to solve the following problem. (you may use materials/manipulati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 your solution on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you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6C02-4A6F-4DA4-A830-F7971C6956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:\Users\Ian\AppData\Local\Microsoft\Windows\Temporary Internet Files\Content.IE5\9WR4CL09\MC900413494[1].wmf"/>
          <p:cNvPicPr/>
          <p:nvPr/>
        </p:nvPicPr>
        <p:blipFill>
          <a:blip r:embed="rId1"/>
          <a:stretch/>
        </p:blipFill>
        <p:spPr>
          <a:xfrm>
            <a:off x="7010280" y="4724280"/>
            <a:ext cx="1905120" cy="19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e Fruity Set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01800"/>
            <a:ext cx="8458200" cy="4736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basket of fruit, containing mangos, blueberries, apples and cherries was delivered to the pa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king took one  sixth of all the fr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From what was lef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the queen took one fifth of the fr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From what was lef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the princess took one fourth of the fr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From what was lef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the prince took one third of the fruit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From what was lef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the duchess took one half of the fruit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s left only 2 blueberries and 1 mango in the bowl for the serv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many pieces of fruit were originally in the bas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Users\Ian\AppData\Local\Microsoft\Windows\Temporary Internet Files\Content.IE5\9WR4CL09\MC900413494[1].wmf"/>
          <p:cNvPicPr/>
          <p:nvPr/>
        </p:nvPicPr>
        <p:blipFill>
          <a:blip r:embed="rId1"/>
          <a:stretch/>
        </p:blipFill>
        <p:spPr>
          <a:xfrm>
            <a:off x="7662960" y="5410080"/>
            <a:ext cx="13287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the big ideas and misconceptions about fractions that this problem may address/exp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these on stickies and post them on the learning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EEA1-C1D5-4941-8381-35670B0408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uess and Che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9036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ick a multiple of 6  - let’s say 6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sixth of 60 is 10 which leaves 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fifth of 5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fourth of 4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third of 3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half of 2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0 left over is too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y a lower multiple of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raw a Diagra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9" name="Picture 3" descr="MangoChart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14"/>
          <p:cNvGrpSpPr/>
          <p:nvPr/>
        </p:nvGrpSpPr>
        <p:grpSpPr>
          <a:xfrm>
            <a:off x="76320" y="1295280"/>
            <a:ext cx="9067680" cy="946440"/>
            <a:chOff x="76320" y="1295280"/>
            <a:chExt cx="9067680" cy="946440"/>
          </a:xfrm>
        </p:grpSpPr>
        <p:sp>
          <p:nvSpPr>
            <p:cNvPr id="91" name="TextBox 7"/>
            <p:cNvSpPr/>
            <p:nvPr/>
          </p:nvSpPr>
          <p:spPr>
            <a:xfrm>
              <a:off x="76320" y="1295280"/>
              <a:ext cx="144756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King removes one sixth of  fru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8"/>
            <p:cNvSpPr/>
            <p:nvPr/>
          </p:nvSpPr>
          <p:spPr>
            <a:xfrm>
              <a:off x="1523880" y="1295280"/>
              <a:ext cx="152388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Queen removes one fifth of remain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9"/>
            <p:cNvSpPr/>
            <p:nvPr/>
          </p:nvSpPr>
          <p:spPr>
            <a:xfrm>
              <a:off x="3048120" y="1295280"/>
              <a:ext cx="152388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Princess  removes one fourth of remain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1"/>
            <p:cNvSpPr/>
            <p:nvPr/>
          </p:nvSpPr>
          <p:spPr>
            <a:xfrm>
              <a:off x="4572000" y="1295280"/>
              <a:ext cx="152388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Prince    removes one third of remain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2"/>
            <p:cNvSpPr/>
            <p:nvPr/>
          </p:nvSpPr>
          <p:spPr>
            <a:xfrm>
              <a:off x="6096240" y="1295280"/>
              <a:ext cx="152388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Duchess removes one half  of remain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3"/>
            <p:cNvSpPr/>
            <p:nvPr/>
          </p:nvSpPr>
          <p:spPr>
            <a:xfrm>
              <a:off x="7620120" y="1295280"/>
              <a:ext cx="152388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2 blueberries and a mango 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487656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nother Diagra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417680"/>
            <a:ext cx="9372600" cy="868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King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        Queen        Princess           Prince       Duchess      Serv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6"/>
          <p:cNvGrpSpPr/>
          <p:nvPr/>
        </p:nvGrpSpPr>
        <p:grpSpPr>
          <a:xfrm>
            <a:off x="338040" y="1905120"/>
            <a:ext cx="8577360" cy="668160"/>
            <a:chOff x="338040" y="1905120"/>
            <a:chExt cx="8577360" cy="668160"/>
          </a:xfrm>
        </p:grpSpPr>
        <p:sp>
          <p:nvSpPr>
            <p:cNvPr id="100" name="Oval 4"/>
            <p:cNvSpPr/>
            <p:nvPr/>
          </p:nvSpPr>
          <p:spPr>
            <a:xfrm>
              <a:off x="338040" y="1905120"/>
              <a:ext cx="764280" cy="66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5"/>
            <p:cNvSpPr/>
            <p:nvPr/>
          </p:nvSpPr>
          <p:spPr>
            <a:xfrm>
              <a:off x="1781640" y="1905120"/>
              <a:ext cx="764280" cy="66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"/>
            <p:cNvSpPr/>
            <p:nvPr/>
          </p:nvSpPr>
          <p:spPr>
            <a:xfrm>
              <a:off x="3395160" y="1905120"/>
              <a:ext cx="764280" cy="66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5178600" y="1905120"/>
              <a:ext cx="764280" cy="66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6622560" y="1905120"/>
              <a:ext cx="764280" cy="66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8151120" y="1905120"/>
              <a:ext cx="764280" cy="66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0"/>
            <p:cNvSpPr/>
            <p:nvPr/>
          </p:nvSpPr>
          <p:spPr>
            <a:xfrm>
              <a:off x="5348520" y="2052720"/>
              <a:ext cx="59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6792480" y="2052720"/>
              <a:ext cx="59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3565080" y="2052720"/>
              <a:ext cx="59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3"/>
            <p:cNvSpPr/>
            <p:nvPr/>
          </p:nvSpPr>
          <p:spPr>
            <a:xfrm>
              <a:off x="1951560" y="2052720"/>
              <a:ext cx="59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>
              <a:off x="507600" y="2052720"/>
              <a:ext cx="59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5"/>
            <p:cNvSpPr/>
            <p:nvPr/>
          </p:nvSpPr>
          <p:spPr>
            <a:xfrm>
              <a:off x="8321040" y="2052720"/>
              <a:ext cx="59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6"/>
          <p:cNvSpPr/>
          <p:nvPr/>
        </p:nvSpPr>
        <p:spPr>
          <a:xfrm>
            <a:off x="1219320" y="3048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3 + 3 + 3 + 3 + 3 + 3 =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orking Backw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rvant receives 3 pie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uches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took one half)  so 3 is half of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ince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took one third) so 6 is two thirds of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incess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took one fourth)  so 9 is three fourths of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Queen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took one fifth) so 12 is four fifths of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ing   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took one sixth)  so 1 is five sixxths of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IMG00017-20111112-1745"/>
          <p:cNvPicPr/>
          <p:nvPr/>
        </p:nvPicPr>
        <p:blipFill>
          <a:blip r:embed="rId1"/>
          <a:srcRect l="4167" t="0" r="26667" b="16668"/>
          <a:stretch/>
        </p:blipFill>
        <p:spPr>
          <a:xfrm>
            <a:off x="2514600" y="609480"/>
            <a:ext cx="6629400" cy="5989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 rot="16200000">
            <a:off x="647280" y="-1104840"/>
            <a:ext cx="2590920" cy="3733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 anchorCtr="1" vert="eaVer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lgebraic Solu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4800600" cy="1128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inding a Patter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tart with 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e sixth of 24 equals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e fifth of 20 equals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e fourth of 16 equals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hoose a lower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e sixth of 18 equals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e fifth of 15 equals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 blueberries is what was left 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 people times 3 equals 18 pieces of fr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9284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1171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b5ca9"/>
                </a:solidFill>
                <a:latin typeface="Arial"/>
              </a:rPr>
              <a:t>Myth: fractional parts of an area need to look exactly the same (size and shape)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04DC-B9C1-445B-B7D1-2172E8DF9C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990720" y="33066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6120" indent="-19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-organize into homogeneous grade groups of 4 to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6120" indent="-19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the following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articipant Learning Goals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352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vestigate portfolio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epen their understanding of Balance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come aware of important understandings and misconceptions and how to assess for understanding in the learning of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Users\Ian\AppData\Local\Microsoft\Windows\Temporary Internet Files\Content.IE5\9WR4CL09\MP900423113[1].jpg"/>
          <p:cNvPicPr/>
          <p:nvPr/>
        </p:nvPicPr>
        <p:blipFill>
          <a:blip r:embed="rId1"/>
          <a:stretch/>
        </p:blipFill>
        <p:spPr>
          <a:xfrm>
            <a:off x="6629400" y="45720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1"/>
          <a:srcRect l="8670" t="864" r="6064" b="2754"/>
          <a:stretch/>
        </p:blipFill>
        <p:spPr>
          <a:xfrm rot="169800">
            <a:off x="878040" y="1374840"/>
            <a:ext cx="6948360" cy="4170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Is one fourth of the square in the picture shaded?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BD6B-1BFD-43F2-B901-9F80E43DC4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5713920" y="5938920"/>
            <a:ext cx="32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P61 A Focus on Fra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ria’s Response </a:t>
            </a:r>
            <a:r>
              <a:rPr b="0" lang="en-CA" sz="3200" spc="-1" strike="noStrike" baseline="-25000">
                <a:solidFill>
                  <a:srgbClr val="2b5ca9"/>
                </a:solidFill>
                <a:latin typeface="Arial"/>
              </a:rPr>
              <a:t>p62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C1C4-530F-401F-ABDA-98362092F1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6197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illiam’s Response </a:t>
            </a:r>
            <a:r>
              <a:rPr b="0" lang="en-CA" sz="4400" spc="-1" strike="noStrike" baseline="-25000">
                <a:solidFill>
                  <a:srgbClr val="2b5ca9"/>
                </a:solidFill>
                <a:latin typeface="Arial"/>
              </a:rPr>
              <a:t>p6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523D-8203-4DFA-9ACA-16179D7030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1326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lace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know about each student‘s understanding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 unsure of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would you ask each nex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6DDF-7473-4B78-A4C1-19F1B06D51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449568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roup Place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D6ED-3241-4706-802A-0F0B7518CE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8"/>
          <p:cNvGrpSpPr/>
          <p:nvPr/>
        </p:nvGrpSpPr>
        <p:grpSpPr>
          <a:xfrm>
            <a:off x="152280" y="1219320"/>
            <a:ext cx="8991360" cy="4190760"/>
            <a:chOff x="152280" y="1219320"/>
            <a:chExt cx="8991360" cy="4190760"/>
          </a:xfrm>
        </p:grpSpPr>
        <p:grpSp>
          <p:nvGrpSpPr>
            <p:cNvPr id="138" name="Group 20"/>
            <p:cNvGrpSpPr/>
            <p:nvPr/>
          </p:nvGrpSpPr>
          <p:grpSpPr>
            <a:xfrm>
              <a:off x="152280" y="1219320"/>
              <a:ext cx="8991360" cy="4190760"/>
              <a:chOff x="152280" y="1219320"/>
              <a:chExt cx="8991360" cy="4190760"/>
            </a:xfrm>
          </p:grpSpPr>
          <p:sp>
            <p:nvSpPr>
              <p:cNvPr id="139" name="Straight Connector 6"/>
              <p:cNvSpPr/>
              <p:nvPr/>
            </p:nvSpPr>
            <p:spPr>
              <a:xfrm>
                <a:off x="533160" y="1295280"/>
                <a:ext cx="8229960" cy="403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19"/>
              <p:cNvGrpSpPr/>
              <p:nvPr/>
            </p:nvGrpSpPr>
            <p:grpSpPr>
              <a:xfrm>
                <a:off x="152280" y="1219320"/>
                <a:ext cx="8991360" cy="4190760"/>
                <a:chOff x="152280" y="1219320"/>
                <a:chExt cx="8991360" cy="4190760"/>
              </a:xfrm>
            </p:grpSpPr>
            <p:sp>
              <p:nvSpPr>
                <p:cNvPr id="141" name="Rectangle 4"/>
                <p:cNvSpPr/>
                <p:nvPr/>
              </p:nvSpPr>
              <p:spPr>
                <a:xfrm>
                  <a:off x="533160" y="1295280"/>
                  <a:ext cx="8229960" cy="40384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Straight Connector 9"/>
                <p:cNvSpPr/>
                <p:nvPr/>
              </p:nvSpPr>
              <p:spPr>
                <a:xfrm flipV="1">
                  <a:off x="533160" y="1295280"/>
                  <a:ext cx="8229960" cy="403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itle 1"/>
                <p:cNvSpPr/>
                <p:nvPr/>
              </p:nvSpPr>
              <p:spPr>
                <a:xfrm>
                  <a:off x="2133360" y="1219320"/>
                  <a:ext cx="55627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0760" rIns="90000" tIns="50760" bIns="50760" anchor="ctr">
                  <a:noAutofit/>
                </a:bodyPr>
                <a:p>
                  <a:pPr marL="39600" indent="-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400" spc="-1" strike="noStrike">
                      <a:solidFill>
                        <a:srgbClr val="2b5ca9"/>
                      </a:solidFill>
                      <a:latin typeface="Arial"/>
                    </a:rPr>
                    <a:t>What I am sure about  Maria`s understanding: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itle 1"/>
                <p:cNvSpPr/>
                <p:nvPr/>
              </p:nvSpPr>
              <p:spPr>
                <a:xfrm rot="5400000">
                  <a:off x="7017120" y="2978640"/>
                  <a:ext cx="31240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0760" rIns="90000" tIns="50760" bIns="50760" anchor="ctr">
                  <a:noAutofit/>
                </a:bodyPr>
                <a:p>
                  <a:pPr marL="39600" indent="-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400" spc="-1" strike="noStrike">
                      <a:solidFill>
                        <a:srgbClr val="2b5ca9"/>
                      </a:solidFill>
                      <a:latin typeface="Arial"/>
                    </a:rPr>
                    <a:t>What I would ask  Maria next: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Title 1"/>
                <p:cNvSpPr/>
                <p:nvPr/>
              </p:nvSpPr>
              <p:spPr>
                <a:xfrm rot="10800000">
                  <a:off x="1066680" y="4952880"/>
                  <a:ext cx="55627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0760" rIns="90000" tIns="50760" bIns="50760" anchor="ctr">
                  <a:noAutofit/>
                </a:bodyPr>
                <a:p>
                  <a:pPr marL="39600" indent="-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400" spc="-1" strike="noStrike">
                      <a:solidFill>
                        <a:srgbClr val="2b5ca9"/>
                      </a:solidFill>
                      <a:latin typeface="Arial"/>
                    </a:rPr>
                    <a:t>What I am sure about  William`s understanding: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itle 1"/>
                <p:cNvSpPr/>
                <p:nvPr/>
              </p:nvSpPr>
              <p:spPr>
                <a:xfrm rot="16200000">
                  <a:off x="-845280" y="2445480"/>
                  <a:ext cx="31240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0760" rIns="90000" tIns="50760" bIns="50760" anchor="ctr">
                  <a:noAutofit/>
                </a:bodyPr>
                <a:p>
                  <a:pPr marL="39600" indent="-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400" spc="-1" strike="noStrike">
                      <a:solidFill>
                        <a:srgbClr val="2b5ca9"/>
                      </a:solidFill>
                      <a:latin typeface="Arial"/>
                    </a:rPr>
                    <a:t>What I would ask  William next: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Oval 12"/>
            <p:cNvSpPr/>
            <p:nvPr/>
          </p:nvSpPr>
          <p:spPr>
            <a:xfrm>
              <a:off x="3276360" y="2514600"/>
              <a:ext cx="2819520" cy="1600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itle 1"/>
            <p:cNvSpPr/>
            <p:nvPr/>
          </p:nvSpPr>
          <p:spPr>
            <a:xfrm>
              <a:off x="4267080" y="304812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90000" tIns="50760" bIns="50760" anchor="ctr">
              <a:noAutofit/>
            </a:bodyPr>
            <a:p>
              <a:pPr marL="39600" indent="-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2b5ca9"/>
                  </a:solidFill>
                  <a:latin typeface="Arial"/>
                </a:rPr>
                <a:t>Informed Practic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illiam`s Follow-up</a:t>
            </a:r>
            <a:r>
              <a:rPr b="0" lang="en-CA" sz="4400" spc="-1" strike="noStrike" baseline="-25000">
                <a:solidFill>
                  <a:srgbClr val="2b5ca9"/>
                </a:solidFill>
                <a:latin typeface="Arial"/>
              </a:rPr>
              <a:t> p6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884E-C347-4BB4-A0EE-1C4978EA52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467840" cy="22762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609480" y="106668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iam took 4 marbles out of his desk . He said that even though the marbles were not the same size, one of the marbles was one fourth of his set of four marbles – the shaded portion of the square is one piece out of four pieces , so it is one fourth of the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82040" cy="3224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-7668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ria`s Follow-up </a:t>
            </a:r>
            <a:r>
              <a:rPr b="0" lang="en-CA" sz="4400" spc="-1" strike="noStrike" baseline="-25000">
                <a:solidFill>
                  <a:srgbClr val="2b5ca9"/>
                </a:solidFill>
                <a:latin typeface="Arial"/>
              </a:rPr>
              <a:t>pg 64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9480" y="4343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96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Jokerman"/>
              </a:rPr>
              <a:t>No, one fourth is not shaded because Square 1 is not divided into 4 equal parts and Square 2 is divided into 2 unequal parts not 4 part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8F1E-7CE0-4B9C-8075-54A86912C4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tent Placeholder 2"/>
          <p:cNvSpPr/>
          <p:nvPr/>
        </p:nvSpPr>
        <p:spPr>
          <a:xfrm>
            <a:off x="685800" y="1066680"/>
            <a:ext cx="78487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96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rs. Armstrong asked Maria if each of the figures below showed one fourth of the figure sh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lacemat Part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dd to your group’s placemat any new information you have about Maria or William’s understa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circle in middle: How can this follow-up student work inform teaching/practi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E93E-6734-4A99-BDCF-9AFAEC80ED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 – Your Choi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s your A-HA moment from tod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rd for your treasur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7960" y="12949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ment on the following qu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A fine glass vase goes from treasure to trash, the moment it is broken. Fortunately, something else happens to you and me. Pick up your pieces. Then, help me gather mine.”  ― Vera Nazarian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5D92-5604-47D1-AF3F-407DBDCFC6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ome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48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bl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s many different ways to show one half a geoboard and record each way on the grid square hand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7B62-7092-4A1B-8935-F310C2F0CD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400800" y="4038480"/>
          <a:ext cx="2362320" cy="2233800"/>
        </p:xfrm>
        <a:graphic>
          <a:graphicData uri="http://schemas.openxmlformats.org/drawingml/2006/table">
            <a:tbl>
              <a:tblPr/>
              <a:tblGrid>
                <a:gridCol w="236520"/>
                <a:gridCol w="236520"/>
                <a:gridCol w="235080"/>
                <a:gridCol w="236520"/>
                <a:gridCol w="236520"/>
                <a:gridCol w="236520"/>
                <a:gridCol w="236520"/>
                <a:gridCol w="235080"/>
                <a:gridCol w="236520"/>
                <a:gridCol w="236520"/>
              </a:tblGrid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429000" y="4343400"/>
          <a:ext cx="2362320" cy="2233440"/>
        </p:xfrm>
        <a:graphic>
          <a:graphicData uri="http://schemas.openxmlformats.org/drawingml/2006/table">
            <a:tbl>
              <a:tblPr/>
              <a:tblGrid>
                <a:gridCol w="236520"/>
                <a:gridCol w="236520"/>
                <a:gridCol w="235080"/>
                <a:gridCol w="236520"/>
                <a:gridCol w="236520"/>
                <a:gridCol w="236520"/>
                <a:gridCol w="236520"/>
                <a:gridCol w="235080"/>
                <a:gridCol w="236520"/>
                <a:gridCol w="236520"/>
              </a:tblGrid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172200" y="228600"/>
          <a:ext cx="2362320" cy="2233440"/>
        </p:xfrm>
        <a:graphic>
          <a:graphicData uri="http://schemas.openxmlformats.org/drawingml/2006/table">
            <a:tbl>
              <a:tblPr/>
              <a:tblGrid>
                <a:gridCol w="236520"/>
                <a:gridCol w="236520"/>
                <a:gridCol w="235080"/>
                <a:gridCol w="236520"/>
                <a:gridCol w="236520"/>
                <a:gridCol w="236520"/>
                <a:gridCol w="236520"/>
                <a:gridCol w="235080"/>
                <a:gridCol w="236520"/>
                <a:gridCol w="236520"/>
              </a:tblGrid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670572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2b5ca9"/>
                </a:solidFill>
                <a:latin typeface="Arial"/>
              </a:rPr>
              <a:t>Minds on: Inside/Outside Circle</a:t>
            </a:r>
            <a:endParaRPr b="0" lang="en-US" sz="5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07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4 Discuss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8E00-CDC6-4774-B917-B953C11A78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cussion #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scribe any experience you have had with portfolio assess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80E8-357A-476A-AE38-F391A0297B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396216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cussion #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ne thing from Chris’ presentation that you don’t think would work in K-4? How could this be tweaked for K-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38F0-D14E-4523-AC49-26C251606E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90360"/>
            <a:ext cx="403884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cu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one criterion that you would like to see represented in a student portfolio?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AA67-5BB9-4637-82A6-6CFF752A41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cussion #4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 idea about assessment that you would like to learn mor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3CFC-1D8F-4E82-BF9D-A8491319BB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haring Our Stor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C7DB-8D21-4472-8163-2916B75908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:\Users\Ian\AppData\Local\Microsoft\Windows\Temporary Internet Files\Content.IE5\2E2O71GO\MC900045109[1].wmf"/>
          <p:cNvPicPr/>
          <p:nvPr/>
        </p:nvPicPr>
        <p:blipFill>
          <a:blip r:embed="rId1"/>
          <a:stretch/>
        </p:blipFill>
        <p:spPr>
          <a:xfrm>
            <a:off x="4038480" y="1752480"/>
            <a:ext cx="4148280" cy="38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47560"/>
            <a:ext cx="647712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ction: Myth Bus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1620720" indent="-12682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yth: Fractional parts of a set must look exactly the sa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20720" indent="-12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6E5F-551F-43CD-BD08-EC11945CE1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Sandy DiLena</cp:lastModifiedBy>
  <dcterms:modified xsi:type="dcterms:W3CDTF">2012-07-15T22:52:02Z</dcterms:modified>
  <cp:revision>61</cp:revision>
  <dc:subject/>
  <dc:title>&lt;Title&gt;</dc:title>
</cp:coreProperties>
</file>